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8C64-8C06-4AE0-964D-7AB57C8F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DD03-1B17-4766-A32A-FB54DECF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CEE1-7532-4429-BC7B-9AC60A47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57FF-1BB2-47E9-A56D-5229D533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1E9A-7F40-430D-9990-53ED88B6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20D5-FC2B-4AB5-B7EE-D824B5AD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A876-D1B2-4722-A067-3B6E28DF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84F6-1D39-4258-B82B-579FED78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47F6-394D-462B-8A87-473B5060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A4D7-AB04-4A71-B7AB-5E5712C5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72CA-2AAC-4E10-8278-8ABCDB0A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7C10-CA77-4E4F-87ED-43131AFC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52B660-5B57-44B1-954A-D3251A6F27BB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9C86EA-0CC0-433C-9E1C-F0E21412D7E7}" type="slidenum">
              <a:rPr b="0" lang="pt-B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13BC79-9F20-4F61-A182-2A22B9754784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384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6AB801-3D92-4689-A67F-7409450AD541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426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8859BC-FD67-4859-A229-D16BDCC071BB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46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B24A5F-13D4-437C-A89F-14BF16B9C49E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510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679B31D-A20F-442A-AE90-91F532B3515B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4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8D407E-3024-4CF1-8E04-B9BE735E9D85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90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83B8BE-F35F-43BD-B2B1-8AA0C41B4A6E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132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F659D8-14BC-4798-9F34-CC0494D10A56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174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FB9BB6-DBB6-4D44-9961-685DF4058C22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216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E1D02C3-8C85-4A52-B4D2-6ACCEFA88F32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25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4B4850-6984-4640-80B1-7B2652BE7035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300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C7CDF4-8573-4960-AB6F-14A8C6C37630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342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revidencia.gov.br/a-previdencia/orgaos-colegiados/conselho-nacional-de-previdencia-social-cnps/" TargetMode="External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1"/>
          <p:cNvSpPr/>
          <p:nvPr/>
        </p:nvSpPr>
        <p:spPr>
          <a:xfrm>
            <a:off x="1447920" y="4530600"/>
            <a:ext cx="6324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2"/>
          <p:cNvSpPr/>
          <p:nvPr/>
        </p:nvSpPr>
        <p:spPr>
          <a:xfrm>
            <a:off x="395280" y="98100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2400" spc="-1" strike="noStrike">
                <a:solidFill>
                  <a:srgbClr val="008080"/>
                </a:solidFill>
                <a:latin typeface="Arial"/>
              </a:rPr>
              <a:t>MINISTÉRIO DA FAZE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2400" spc="-1" strike="noStrike">
                <a:solidFill>
                  <a:srgbClr val="008080"/>
                </a:solidFill>
                <a:latin typeface="Arial"/>
              </a:rPr>
              <a:t>Secretaria de Políticas de Previdência Social - SP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755640" y="2349360"/>
            <a:ext cx="7775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4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pt-BR" sz="4400" spc="-1" strike="noStrike">
                <a:solidFill>
                  <a:srgbClr val="000080"/>
                </a:solidFill>
                <a:latin typeface="Arial"/>
              </a:rPr>
              <a:t>Conselho Nacional de Previdência – CNP; e Conselho de Previdência Social - C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755640" y="5587920"/>
            <a:ext cx="7543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8080"/>
                </a:solidFill>
                <a:latin typeface="Arial"/>
              </a:rPr>
              <a:t>16 de Fevereiro de 20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80"/>
                </a:solidFill>
                <a:latin typeface="Arial"/>
              </a:rPr>
              <a:t>GRANDES NÚMEROS DO INSS </a:t>
            </a:r>
            <a:br>
              <a:rPr sz="4400"/>
            </a:b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(Posição em dezembro de 2016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9720" indent="-279720" algn="just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33,8 milhões de benefícios em manutenção (Benefícios do RGPS, Assistenciais e Benefícios Indenizatórios da União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720" indent="-279720" algn="just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723,3 mil novos requerimentos, em média, por mês em 2016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720" indent="-279720" algn="just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4,0 milhões de ligações recebidas nas centrais 135/mês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720" indent="-279720" algn="just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693 mil perícias realizadas/mê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720" indent="-279720" algn="just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3,2 milhões de atendimentos presenciais nas APS/mê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720" indent="-279720" algn="just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36,3 mil servidores ativos (inclusive os cedidos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720" indent="-279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80"/>
                </a:solidFill>
                <a:latin typeface="Arial"/>
              </a:rPr>
              <a:t>REDE DE ATENDIMENTO DO INSS</a:t>
            </a: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rcRect l="25018" t="19545" r="40728" b="37757"/>
          <a:stretch/>
        </p:blipFill>
        <p:spPr>
          <a:xfrm>
            <a:off x="1332000" y="2133720"/>
            <a:ext cx="2890800" cy="2025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7" name=""/>
          <p:cNvSpPr txBox="1"/>
          <p:nvPr/>
        </p:nvSpPr>
        <p:spPr>
          <a:xfrm>
            <a:off x="464832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–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Presente em </a:t>
            </a: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1.605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 Municípios (APS Fix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–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1.504 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Agências Convencionai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4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 PREVBarco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7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 Agências de Acordos Internacionai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3 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Agências de Teleatendiment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86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 Agências de Atendimento de Demandas Judiciai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90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 PREVCidades (convênios com prefeitur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1" descr="C:\Users\CIBELE~1.CAS\AppData\Local\Temp\PREVBarco.jpg"/>
          <p:cNvPicPr/>
          <p:nvPr/>
        </p:nvPicPr>
        <p:blipFill>
          <a:blip r:embed="rId2"/>
          <a:stretch/>
        </p:blipFill>
        <p:spPr>
          <a:xfrm>
            <a:off x="1355760" y="4221000"/>
            <a:ext cx="2811600" cy="18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579" name="Retângulo 8"/>
          <p:cNvGrpSpPr/>
          <p:nvPr/>
        </p:nvGrpSpPr>
        <p:grpSpPr>
          <a:xfrm>
            <a:off x="5273640" y="5211720"/>
            <a:ext cx="3297240" cy="573120"/>
            <a:chOff x="5273640" y="5211720"/>
            <a:chExt cx="3297240" cy="573120"/>
          </a:xfrm>
        </p:grpSpPr>
        <p:pic>
          <p:nvPicPr>
            <p:cNvPr id="580" name="Retângulo 8" descr=""/>
            <p:cNvPicPr/>
            <p:nvPr/>
          </p:nvPicPr>
          <p:blipFill>
            <a:blip r:embed="rId3"/>
            <a:stretch/>
          </p:blipFill>
          <p:spPr>
            <a:xfrm>
              <a:off x="5273640" y="5211720"/>
              <a:ext cx="329724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5292720" y="5232240"/>
              <a:ext cx="3255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960" bIns="30960" anchor="t">
              <a:noAutofit/>
            </a:bodyPr>
            <a:p>
              <a:pPr algn="ctr">
                <a:tabLst>
                  <a:tab algn="l" pos="0"/>
                  <a:tab algn="l" pos="303120"/>
                  <a:tab algn="l" pos="606600"/>
                  <a:tab algn="l" pos="909720"/>
                  <a:tab algn="l" pos="1212840"/>
                  <a:tab algn="l" pos="1515960"/>
                  <a:tab algn="l" pos="1819440"/>
                  <a:tab algn="l" pos="2122560"/>
                  <a:tab algn="l" pos="2425680"/>
                  <a:tab algn="l" pos="2728800"/>
                  <a:tab algn="l" pos="3032280"/>
                  <a:tab algn="l" pos="3335400"/>
                  <a:tab algn="l" pos="3638520"/>
                  <a:tab algn="l" pos="3941640"/>
                  <a:tab algn="l" pos="4245120"/>
                  <a:tab algn="l" pos="4548240"/>
                  <a:tab algn="l" pos="4851360"/>
                  <a:tab algn="l" pos="5154480"/>
                  <a:tab algn="l" pos="5457960"/>
                  <a:tab algn="l" pos="5761080"/>
                  <a:tab algn="l" pos="6064200"/>
                </a:tabLst>
              </a:pPr>
              <a:r>
                <a:rPr b="1" lang="pt-BR" sz="1600" spc="-1" strike="noStrike">
                  <a:solidFill>
                    <a:srgbClr val="404040"/>
                  </a:solidFill>
                  <a:latin typeface="Arial"/>
                </a:rPr>
                <a:t>1.694 unidades de atendimento em funcionamen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80"/>
                </a:solidFill>
                <a:latin typeface="Arial"/>
              </a:rPr>
              <a:t>PRINCIPAIS TEMAS EM 20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2204640"/>
            <a:ext cx="85075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terações da Legislação Previdenciári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tor Acidentário de Prevenção – FA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-So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visão dos Benefícios por Incapacida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bertura Previdenciária – PNAD/201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edito Consigna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acto de Acidente de Trânsito na Previdência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Tabela 1" descr=""/>
          <p:cNvPicPr/>
          <p:nvPr/>
        </p:nvPicPr>
        <p:blipFill>
          <a:blip r:embed="rId1"/>
          <a:stretch/>
        </p:blipFill>
        <p:spPr>
          <a:xfrm>
            <a:off x="324000" y="804960"/>
            <a:ext cx="842940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t-BR" sz="4400" spc="-1" strike="noStrike">
                <a:solidFill>
                  <a:srgbClr val="000080"/>
                </a:solidFill>
                <a:latin typeface="Arial"/>
              </a:rPr>
              <a:t>CONSELHO DE PREVIDÊNCIA SOCIAL - C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ítulo 1"/>
          <p:cNvSpPr/>
          <p:nvPr/>
        </p:nvSpPr>
        <p:spPr>
          <a:xfrm>
            <a:off x="519120" y="342900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lang="pt-BR" sz="4400" spc="-1" strike="noStrike" baseline="-25000">
                <a:solidFill>
                  <a:srgbClr val="000080"/>
                </a:solidFill>
                <a:latin typeface="Arial"/>
              </a:rPr>
              <a:t>Previsto para funcionar nas sedes das Gerências-Executivas do IN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1447920" y="4530600"/>
            <a:ext cx="6324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0" y="836640"/>
            <a:ext cx="8893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</a:rPr>
              <a:t>O que são os Conselhos de Previdência Social - C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250920" y="1413000"/>
            <a:ext cx="8569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2003, por força do Decreto nº 4.874, foram criados os CPS’s, unidades descentralizadas do Conselho Nacional de Previdência – CNP, vinculadas ou funcionando junto às Gerências-Executivas do IN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325440" y="3213000"/>
            <a:ext cx="856944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instâncias colegiadas e têm caráter consultivo e de assessoramento, podendo encaminhar propostas para serem deliberadas no âmbito do CN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336600" y="4530600"/>
            <a:ext cx="85694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CPS’s buscam ampliar o diálogo entre a Gerência-Executiva do INSS e a sociedade, permitindo que as necessidades específicas de cada localidade no que diz respeito ao debate de políticas públicas e de legislação previdenciárias sejam atendidas de modo mais efic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6"/>
          <p:cNvSpPr/>
          <p:nvPr/>
        </p:nvSpPr>
        <p:spPr>
          <a:xfrm>
            <a:off x="108000" y="4797360"/>
            <a:ext cx="8856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s CPS são compostos por 10 conselheiros, sendo 2 representantes dos trabalhadores, 2 dos empregadores, 2 dos aposentados e pensionistas e 4 do Governo, os quais se reúnem ao menos uma vez por bimest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tângulo de cantos arredondados 2"/>
          <p:cNvSpPr/>
          <p:nvPr/>
        </p:nvSpPr>
        <p:spPr>
          <a:xfrm>
            <a:off x="3635280" y="1273320"/>
            <a:ext cx="133056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tângulo de cantos arredondados 8"/>
          <p:cNvSpPr/>
          <p:nvPr/>
        </p:nvSpPr>
        <p:spPr>
          <a:xfrm>
            <a:off x="1476360" y="2238480"/>
            <a:ext cx="2519280" cy="685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OV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4 representant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tângulo de cantos arredondados 10"/>
          <p:cNvSpPr/>
          <p:nvPr/>
        </p:nvSpPr>
        <p:spPr>
          <a:xfrm>
            <a:off x="4524480" y="2238480"/>
            <a:ext cx="2519280" cy="685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OCIE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6 representant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tângulo de cantos arredondados 11"/>
          <p:cNvSpPr/>
          <p:nvPr/>
        </p:nvSpPr>
        <p:spPr>
          <a:xfrm>
            <a:off x="539640" y="3429000"/>
            <a:ext cx="3240360" cy="576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APOSENTADOS/PENSIONIS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(2 representant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tângulo de cantos arredondados 12"/>
          <p:cNvSpPr/>
          <p:nvPr/>
        </p:nvSpPr>
        <p:spPr>
          <a:xfrm>
            <a:off x="3924360" y="3429000"/>
            <a:ext cx="2448000" cy="576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TRABALHAD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(2 representant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tângulo de cantos arredondados 13"/>
          <p:cNvSpPr/>
          <p:nvPr/>
        </p:nvSpPr>
        <p:spPr>
          <a:xfrm>
            <a:off x="6516720" y="3429000"/>
            <a:ext cx="2448000" cy="576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EMPREGAD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(2 representant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Conector reto 14"/>
          <p:cNvSpPr/>
          <p:nvPr/>
        </p:nvSpPr>
        <p:spPr>
          <a:xfrm>
            <a:off x="4300560" y="18828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Conector reto 16"/>
          <p:cNvSpPr/>
          <p:nvPr/>
        </p:nvSpPr>
        <p:spPr>
          <a:xfrm flipH="1">
            <a:off x="2734920" y="2060640"/>
            <a:ext cx="29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01" name="Conector de seta reta 19"/>
          <p:cNvCxnSpPr/>
          <p:nvPr/>
        </p:nvCxnSpPr>
        <p:spPr>
          <a:xfrm>
            <a:off x="5724000" y="206064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2" name="Conector de seta reta 21"/>
          <p:cNvCxnSpPr>
            <a:endCxn id="594" idx="0"/>
          </p:cNvCxnSpPr>
          <p:nvPr/>
        </p:nvCxnSpPr>
        <p:spPr>
          <a:xfrm flipH="1">
            <a:off x="2734560" y="206064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3" name="Conector reto 23"/>
          <p:cNvSpPr/>
          <p:nvPr/>
        </p:nvSpPr>
        <p:spPr>
          <a:xfrm>
            <a:off x="565164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Conector reto 25"/>
          <p:cNvSpPr/>
          <p:nvPr/>
        </p:nvSpPr>
        <p:spPr>
          <a:xfrm flipH="1">
            <a:off x="2484000" y="3213000"/>
            <a:ext cx="53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05" name="Conector de seta reta 27"/>
          <p:cNvCxnSpPr/>
          <p:nvPr/>
        </p:nvCxnSpPr>
        <p:spPr>
          <a:xfrm>
            <a:off x="2484000" y="3213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6" name="Conector de seta reta 30"/>
          <p:cNvCxnSpPr/>
          <p:nvPr/>
        </p:nvCxnSpPr>
        <p:spPr>
          <a:xfrm>
            <a:off x="7811640" y="3213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7" name="Conector de seta reta 4096"/>
          <p:cNvCxnSpPr>
            <a:endCxn id="597" idx="0"/>
          </p:cNvCxnSpPr>
          <p:nvPr/>
        </p:nvCxnSpPr>
        <p:spPr>
          <a:xfrm>
            <a:off x="5148000" y="3213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5"/>
          <p:cNvSpPr/>
          <p:nvPr/>
        </p:nvSpPr>
        <p:spPr>
          <a:xfrm>
            <a:off x="581040" y="1341360"/>
            <a:ext cx="799308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DIVULGAÇÃO DAS INFORMAÇÕES RELATIVAS AO CNP E AOS CPS’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4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640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891072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tângulo 1"/>
          <p:cNvSpPr/>
          <p:nvPr/>
        </p:nvSpPr>
        <p:spPr>
          <a:xfrm>
            <a:off x="684360" y="1341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O CONSELHO NACIONAL DE PREVIDÊ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tângulo 2"/>
          <p:cNvSpPr/>
          <p:nvPr/>
        </p:nvSpPr>
        <p:spPr>
          <a:xfrm>
            <a:off x="557280" y="2585880"/>
            <a:ext cx="8064360" cy="29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onselho Nacional de Previdência – CNP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é um órgão superior de deliberação colegiada, instituído pela Lei nº 8.213, de 24 de julho de 1991, e tem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principal objetivo estabelecer o caráter democrático e descentralizado da administração, em cumprimento ao disposto no art. 194 da Constituição, com a redação dada pela Emenda Constitucional nº 20, qu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econiza uma gestão quadriparti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com a participação 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Govern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d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rabalhadores em atividad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d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mpregador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d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posentad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 Unicode MS"/>
              </a:rPr>
              <a:t>MAIO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 Unicode MS"/>
              </a:rPr>
              <a:t>INFORMAÇÕES SOBRE O CNP E SOBRE OS CPS’s PODEM SER ENCONTRADAS NO S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4d4d4d"/>
                </a:solidFill>
                <a:uFillTx/>
                <a:latin typeface="Arial"/>
                <a:ea typeface="Arial"/>
                <a:hlinkClick r:id="rId1"/>
              </a:rPr>
              <a:t>http://www.previdencia.gov.br/a-previdencia/orgaos-colegiados/conselho-nacional-de-previdencia-social-cnp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2" name=""/>
          <p:cNvGraphicFramePr/>
          <p:nvPr/>
        </p:nvGraphicFramePr>
        <p:xfrm>
          <a:off x="324000" y="1052640"/>
          <a:ext cx="8569080" cy="5400720"/>
        </p:xfrm>
        <a:graphic>
          <a:graphicData uri="http://schemas.openxmlformats.org/drawingml/2006/table">
            <a:tbl>
              <a:tblPr/>
              <a:tblGrid>
                <a:gridCol w="1325520"/>
                <a:gridCol w="595080"/>
                <a:gridCol w="433440"/>
                <a:gridCol w="409680"/>
                <a:gridCol w="409680"/>
                <a:gridCol w="409320"/>
                <a:gridCol w="409680"/>
                <a:gridCol w="409680"/>
                <a:gridCol w="409320"/>
                <a:gridCol w="409680"/>
                <a:gridCol w="409680"/>
                <a:gridCol w="409680"/>
                <a:gridCol w="409320"/>
                <a:gridCol w="409680"/>
                <a:gridCol w="409680"/>
                <a:gridCol w="409320"/>
                <a:gridCol w="890640"/>
              </a:tblGrid>
              <a:tr h="30312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deste 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4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çatu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raquar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ru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na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arulh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diaí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íli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asc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racica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idente Prudente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beirão Pret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 Andre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Bernardo do Campo/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11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ão da Boa Vist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sé do Rio Pret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sé dos Camp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/Lest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roca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ubaté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3" name=""/>
          <p:cNvGraphicFramePr/>
          <p:nvPr/>
        </p:nvGraphicFramePr>
        <p:xfrm>
          <a:off x="324000" y="1052640"/>
          <a:ext cx="8507160" cy="5545080"/>
        </p:xfrm>
        <a:graphic>
          <a:graphicData uri="http://schemas.openxmlformats.org/drawingml/2006/table">
            <a:tbl>
              <a:tblPr/>
              <a:tblGrid>
                <a:gridCol w="1315800"/>
                <a:gridCol w="590760"/>
                <a:gridCol w="4316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7880"/>
                <a:gridCol w="406440"/>
                <a:gridCol w="884160"/>
              </a:tblGrid>
              <a:tr h="30132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deste 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bacen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os dos Goytacazes/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gem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mantin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inópoli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que de Caxias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3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vernador Valadares/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iz de For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1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tes Claro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erói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ro Preto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rópolis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ços de Calda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o de Janeiro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ófilo Otoni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6/1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berab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berlândi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ginh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ória / 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ta Redonda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 Instalado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 Instalado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4" name=""/>
          <p:cNvGraphicFramePr/>
          <p:nvPr/>
        </p:nvGraphicFramePr>
        <p:xfrm>
          <a:off x="395280" y="981000"/>
          <a:ext cx="8589960" cy="5327640"/>
        </p:xfrm>
        <a:graphic>
          <a:graphicData uri="http://schemas.openxmlformats.org/drawingml/2006/table">
            <a:tbl>
              <a:tblPr/>
              <a:tblGrid>
                <a:gridCol w="1328760"/>
                <a:gridCol w="596880"/>
                <a:gridCol w="434880"/>
                <a:gridCol w="409680"/>
                <a:gridCol w="411120"/>
                <a:gridCol w="411120"/>
                <a:gridCol w="409680"/>
                <a:gridCol w="411120"/>
                <a:gridCol w="409680"/>
                <a:gridCol w="411120"/>
                <a:gridCol w="409680"/>
                <a:gridCol w="411120"/>
                <a:gridCol w="411120"/>
                <a:gridCol w="409680"/>
                <a:gridCol w="411120"/>
                <a:gridCol w="409320"/>
                <a:gridCol w="893880"/>
              </a:tblGrid>
              <a:tr h="33804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menau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as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5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cavel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xias do Sul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08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pecó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ciúma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itib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rianópolis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juí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5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inville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drin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ingá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o Hamburgo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so Fundo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12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lotas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11/0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ei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ta Gross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5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o Alegre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a Maria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uguaiana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11/0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5" name=""/>
          <p:cNvGraphicFramePr/>
          <p:nvPr/>
        </p:nvGraphicFramePr>
        <p:xfrm>
          <a:off x="395280" y="981000"/>
          <a:ext cx="8507520" cy="5329440"/>
        </p:xfrm>
        <a:graphic>
          <a:graphicData uri="http://schemas.openxmlformats.org/drawingml/2006/table">
            <a:tbl>
              <a:tblPr/>
              <a:tblGrid>
                <a:gridCol w="1316160"/>
                <a:gridCol w="590400"/>
                <a:gridCol w="43200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  <a:gridCol w="408240"/>
                <a:gridCol w="406440"/>
                <a:gridCol w="884160"/>
              </a:tblGrid>
              <a:tr h="30960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Nordes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caju / S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reiras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na Grande / PB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uaru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6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 Regist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ira de Santan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2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taleza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anhuns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6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bun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2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eratriz / 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12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ão Pessoa / PB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zeiro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3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zeiro do Norte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eió / 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ssoró / R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11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al / R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rolina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/11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ife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 Regist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vador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 Antonio de Jesus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Luís / 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bral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5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esina / PI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1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ória da Conquist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7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"/>
          <p:cNvGraphicFramePr/>
          <p:nvPr/>
        </p:nvGraphicFramePr>
        <p:xfrm>
          <a:off x="457200" y="1197000"/>
          <a:ext cx="8435880" cy="5111640"/>
        </p:xfrm>
        <a:graphic>
          <a:graphicData uri="http://schemas.openxmlformats.org/drawingml/2006/table">
            <a:tbl>
              <a:tblPr/>
              <a:tblGrid>
                <a:gridCol w="1305000"/>
                <a:gridCol w="585720"/>
                <a:gridCol w="426960"/>
                <a:gridCol w="403200"/>
                <a:gridCol w="403200"/>
                <a:gridCol w="403200"/>
                <a:gridCol w="403200"/>
                <a:gridCol w="403560"/>
                <a:gridCol w="403200"/>
                <a:gridCol w="403200"/>
                <a:gridCol w="403200"/>
                <a:gridCol w="403200"/>
                <a:gridCol w="403200"/>
                <a:gridCol w="401760"/>
                <a:gridCol w="403200"/>
                <a:gridCol w="403200"/>
                <a:gridCol w="877680"/>
              </a:tblGrid>
              <a:tr h="51120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Norte / Centro Oes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ápolis / G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ém / P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81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a Vista / R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o Grande / M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iabá / M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to Federal / DF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rados / M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7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iânia / G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apá / A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us / AM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7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lmas / T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o Velho / 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o Branco / A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8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7" name=""/>
          <p:cNvGraphicFramePr/>
          <p:nvPr/>
        </p:nvGraphicFramePr>
        <p:xfrm>
          <a:off x="179280" y="820800"/>
          <a:ext cx="8785440" cy="5821200"/>
        </p:xfrm>
        <a:graphic>
          <a:graphicData uri="http://schemas.openxmlformats.org/drawingml/2006/table">
            <a:tbl>
              <a:tblPr/>
              <a:tblGrid>
                <a:gridCol w="1278000"/>
                <a:gridCol w="4292640"/>
                <a:gridCol w="3214800"/>
              </a:tblGrid>
              <a:tr h="6462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ERINTENDÊ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O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I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TI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10285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pt-BR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çatuba, Bauru, Campinas, Jundiaí, Marília, Piracicaba, Ribeirão Preto, Santo André, Santos, São José dos Campos, São José do Rio Preto, São Paulo, Sorocaba, Taubaté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r>
                        <a:rPr b="0" lang="pt-BR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raquara, Guarulhos, Osasco, Presidente Prudente, São Bernardo do Campo, São João da Boa Vist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10879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3 </a:t>
                      </a:r>
                      <a:r>
                        <a:rPr b="0" lang="pt-BR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, Campos dos Goytacazes, Contagem, Diamantina, Governador Valadares, Montes Claros, Niterói, Ouro Preto, Petrópolis, Rio de Janeiro, Teófilo Otoni, Varginha, Vitór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bacena, Divinópolis, Duque de Caxias, Juiz de Fora, Poços de Caldas, Uberaba, Uberlândia, Volta Redond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10285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rianópol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8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menau, Canoas, Cascavel, Caxias do Sul, Chapecó, Criciúma, Curitiba, Florianópolis, Ijuí, Joinville, Maringá, Novo Hamburgo, Pelotas, Ponta Grossa, Porto Alegre, Santa Maria, Uruguaiana, Passo Fundo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dri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10270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if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na Grande, Garanhuns, Itabuna,  João Pessoa, Juazeiro, Juazeiro do Norte, Maceió, Natal, Petrolina, Salvador, Santo Antônio de Jesu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2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caju, Barreiras, Caruaru, Feira de Santana, Fortaleza, Imperatriz, Mossoró,  Recife, São Luís, Sobral, Teresina, Vitória da Conquist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6318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síl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o Grande, Distrito Federal, Dourados, Goiânia, Macapá, Manau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ápolis, Belém, Boa Vista, Cuiabá, Palmas, Porto Velho, Rio Branco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3722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5"/>
          <p:cNvSpPr/>
          <p:nvPr/>
        </p:nvSpPr>
        <p:spPr>
          <a:xfrm>
            <a:off x="611280" y="2060640"/>
            <a:ext cx="7632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Muito obrigado</a:t>
            </a:r>
            <a:br>
              <a:rPr sz="3600"/>
            </a:br>
            <a:br>
              <a:rPr sz="3600"/>
            </a:br>
            <a:br>
              <a:rPr sz="24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Contatos: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Esplanada dos Ministérios, Bloco F, 7º Andar, Sala 735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Brasília, DF - CEP: 70059-900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E-mail: cnps@previdencia.gov.br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Fone: (61) 2021-5164/5301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Fax: (61) 2021-5345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tângulo 1"/>
          <p:cNvSpPr/>
          <p:nvPr/>
        </p:nvSpPr>
        <p:spPr>
          <a:xfrm>
            <a:off x="755640" y="1268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COMPOSIÇÃO DO CONSELHO NACIONAL DE PREVIDÊNC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tângulo 2"/>
          <p:cNvSpPr/>
          <p:nvPr/>
        </p:nvSpPr>
        <p:spPr>
          <a:xfrm>
            <a:off x="250920" y="2492280"/>
            <a:ext cx="8642160" cy="39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São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conselheiro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7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do governo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7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da sociedade civil, send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representantes dos trabalhadores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representantes dos aposentados e pensionistas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representantes dos empregador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  <a:ea typeface="Arial Unicode MS"/>
              </a:rPr>
              <a:t>REPRESENTANTES</a:t>
            </a:r>
            <a:r>
              <a:rPr b="1" lang="pt-BR" sz="2800" spc="-1" strike="noStrike" u="sng">
                <a:solidFill>
                  <a:srgbClr val="000080"/>
                </a:solidFill>
                <a:uFillTx/>
                <a:latin typeface="Arial"/>
                <a:ea typeface="Arial Unicode MS"/>
              </a:rPr>
              <a:t> DO GOVERNO FEDERAL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79280" y="1557000"/>
            <a:ext cx="44640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T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enrique de Campos Meirelles – Presidente do CN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Ministro da Fazenda – M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enedito Adalberto Brunca</a:t>
            </a:r>
            <a:r>
              <a:rPr b="0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 Secretário Executivo do CN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Secretário de Políticas de Previdência Social do Ministério da Previdência Social - M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onardo de Melo Gadelh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Presidente do Instituto Nacional do Seguro Social - IN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rcelo Abi-Ramia Caetan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Secretário de Política de Previdência Complementar do Ministério da Previdência Social - M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eferson Luis Bittencour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Ministério da Fazenda - M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marildo Saldanha de Olivei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Ministério do Planejamento, Orçamento e Gestão - M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0" y="1557000"/>
            <a:ext cx="44640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duardo Refinetti Guard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Secretário Executivo do Ministério da Fazenda - M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manuel de Araújo Danta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Diretor do Departamento do Regime Geral de Previdênci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Social - M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binson Flávio Dias Neme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Diretor de Benefícios do Instituto Nacional do Seguro Social - INS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niel Belmiro Fon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Secretaria da Receita Federal do Brasil – SRF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io Guimarães Figueire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Ministério da Fazenda – M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gério Nagamine Costanz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Instituto de Pesquisa Econômica Aplicada - IPE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80"/>
                </a:solidFill>
                <a:uFillTx/>
                <a:latin typeface="Arial"/>
                <a:ea typeface="Arial Unicode MS"/>
              </a:rPr>
              <a:t>REPRESENTANTES DOS TRABALHADORES EM ATIVIDAD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T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tonio Cortez Mora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Força Sindical - 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uintino Marques Sev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entral Única dos Trabalhadores – C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vandro José More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os Trabalhadores na Agricultura - CON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647960" y="1989000"/>
            <a:ext cx="42447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guel Salaberry Fil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União Geral dos Trabalhadores - 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oão Junior Onuki Al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os Pescadores e Aquicultores - CN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ascoal Carnei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entral dos Trabalhadores e Trabalhadoras do Brasil - CT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80"/>
                </a:solidFill>
                <a:uFillTx/>
                <a:latin typeface="Arial"/>
                <a:ea typeface="Arial Unicode MS"/>
              </a:rPr>
              <a:t>REPRESENTANTES DOS EMPREGADOR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T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rissa Nascente Guimarães Lesto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a Indústria - C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tônio Lisboa Cardo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o Comércio - CN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drigo Hugueney do Amaral Me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da Agricultura e Pecuária do Brasil – C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64832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alter Tadeu Pinto de F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as Instituições Financeiras - CN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érgio Aureliano Machado da Sil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e Municípios - C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icardo de Saboya Rocha Mira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o Transporte - C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80"/>
                </a:solidFill>
                <a:uFillTx/>
                <a:latin typeface="Arial"/>
                <a:ea typeface="Arial Unicode MS"/>
              </a:rPr>
              <a:t>REPRESENTANTES DOS APOSENTADOS E PENSIONISTA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T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erson Maia de Carval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Sindicato Nacional dos Trabalhadores Aposentados e Pensionistas e Idosos – SINTAPI/C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rcos Barroso de Olivei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Brasileira de Aposentados e Pensionistas – COB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rea Angerami G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Sindicato Nacional dos Aposentados e Pensionistas da Força Sindical – SINDNA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648320" y="1989000"/>
            <a:ext cx="43876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ucio Antonio Bellentan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entral dos Sindicatos Brasileiros - CS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ildo Arquiminio de Carval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Brasileira de Aposentados e Pensionistas – COB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ngracia Viviane Rodrigues da Sil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os Trabalhadores na Agricultura - CON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22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8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atendimento ao art. 194, parágrafo único, VIII da CF, o Conselho visa à organização da Previdência Social, garantindo o  caráter democrático e descentralizado da administração, mediante gestão quadripartite, com a participação do Governo, dos trabalhadores em atividade, dos empregadores e dos aposent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80"/>
                </a:solidFill>
                <a:latin typeface="Arial"/>
              </a:rPr>
              <a:t>COMPETÊ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46600" indent="-24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liberar sobre a política de previdência so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liberar sobre a gestão do sistema previdenciár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ciar e aprovar planos e program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r objetivos, metas, prazos e mecanismos de controle para avaliação da execução desses programas, no âmbito da Previdência So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ciar e aprovar a proposta orçamentária da Previdência Social antes de sua consolida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mpanhar a aplicação da legislação pertinente à Previdência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brina Dias de Araujo Mendonca - MPS</dc:creator>
  <dc:description/>
  <dc:language>en-US</dc:language>
  <cp:lastModifiedBy>Silvana do Socorro Machado Rodrigues - MPS</cp:lastModifiedBy>
  <cp:lastPrinted>2016-11-09T19:23:49Z</cp:lastPrinted>
  <dcterms:modified xsi:type="dcterms:W3CDTF">2017-02-14T20:05:36Z</dcterms:modified>
  <cp:revision>288</cp:revision>
  <dc:subject/>
  <dc:title>Slide 1</dc:title>
</cp:coreProperties>
</file>